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3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48A3-CF73-4EAF-A1B0-26B8EA87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BFD-87DD-471C-9048-FDCD7D28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174-AC40-4A09-9068-8AE320C9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156-5BAA-47A0-963D-B61A35E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6E2-A707-4FAC-B500-C5BC6E4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C6F-D90E-4767-8829-693C0DF5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28A-F3C6-4721-9C0E-52679D8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E86-A250-4DF1-8D5C-19FC8740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076-4B6C-4A53-9EF2-100C408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A82-C515-495C-A48D-D02BE10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899-8785-488C-BD68-AD275C7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C9F-505F-4098-9595-BF9B79E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23C-5D6A-4D1A-95A6-AE4F927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609-D54C-43D3-A654-93DC9C99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5F5-3349-431E-B926-12A5D099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-Point Star 9"/>
          <p:cNvSpPr/>
          <p:nvPr/>
        </p:nvSpPr>
        <p:spPr>
          <a:xfrm>
            <a:off x="5867280" y="83808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lanetPictu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2"/>
          <a:stretch/>
        </p:blipFill>
        <p:spPr>
          <a:xfrm>
            <a:off x="2736720" y="378000"/>
            <a:ext cx="534060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7" descr=""/>
          <p:cNvPicPr/>
          <p:nvPr/>
        </p:nvPicPr>
        <p:blipFill>
          <a:blip r:embed="rId3"/>
          <a:stretch/>
        </p:blipFill>
        <p:spPr>
          <a:xfrm>
            <a:off x="3346560" y="4340160"/>
            <a:ext cx="41274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3581280" y="3809880"/>
            <a:ext cx="3248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Anissa Sandov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3505320" y="5638680"/>
            <a:ext cx="3314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Maddie Knutso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3505320" y="5029200"/>
            <a:ext cx="40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upcat"/>
              </a:rPr>
              <a:t>Corinne Monteleone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upcat"/>
              <a:ea typeface="Pupca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7"/>
          <p:cNvGraphicFramePr/>
          <p:nvPr/>
        </p:nvGraphicFramePr>
        <p:xfrm>
          <a:off x="0" y="0"/>
          <a:ext cx="9144000" cy="69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0" y="-135000"/>
          <a:ext cx="9144000" cy="69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35000"/>
                    <a:ext cx="9144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1011240" y="365040"/>
            <a:ext cx="6980400" cy="299412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4" descr=""/>
          <p:cNvPicPr/>
          <p:nvPr/>
        </p:nvPicPr>
        <p:blipFill>
          <a:blip r:embed="rId2"/>
          <a:stretch/>
        </p:blipFill>
        <p:spPr>
          <a:xfrm>
            <a:off x="652320" y="2749680"/>
            <a:ext cx="8199720" cy="3670200"/>
          </a:xfrm>
          <a:prstGeom prst="rect">
            <a:avLst/>
          </a:prstGeom>
          <a:ln w="0">
            <a:noFill/>
          </a:ln>
        </p:spPr>
      </p:pic>
      <p:sp>
        <p:nvSpPr>
          <p:cNvPr id="86" name="5-Point Star 5"/>
          <p:cNvSpPr/>
          <p:nvPr/>
        </p:nvSpPr>
        <p:spPr>
          <a:xfrm>
            <a:off x="533520" y="22096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Point Star 7"/>
          <p:cNvSpPr/>
          <p:nvPr/>
        </p:nvSpPr>
        <p:spPr>
          <a:xfrm>
            <a:off x="7848720" y="2133720"/>
            <a:ext cx="990360" cy="914400"/>
          </a:xfrm>
          <a:custGeom>
            <a:avLst/>
            <a:gdLst>
              <a:gd name="textAreaLeft" fmla="*/ 306000 w 990360"/>
              <a:gd name="textAreaRight" fmla="*/ 684360 w 99036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5" y="565127"/>
                </a:lnTo>
                <a:lnTo>
                  <a:pt x="801413" y="914397"/>
                </a:lnTo>
                <a:lnTo>
                  <a:pt x="495300" y="698535"/>
                </a:lnTo>
                <a:lnTo>
                  <a:pt x="189187" y="914397"/>
                </a:lnTo>
                <a:lnTo>
                  <a:pt x="306115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Point Star 8"/>
          <p:cNvSpPr/>
          <p:nvPr/>
        </p:nvSpPr>
        <p:spPr>
          <a:xfrm>
            <a:off x="4114800" y="2133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would have to have enough mass to have a gravitational pull, and would also have to have some type of atmosphere.-- Maddie Knut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has to have a moon that orbits around it while it orbits around the sun. A planet should also  should illuminate the sun’s l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-- Baylie Steph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A planet must be a sphere shape and must have under 100 Earth yea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be considered a planet and if not it is considered an irregular plan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or a dwarf planet – -- Anissa Sand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Libel Su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The gravity around the equator of the planet has to be at least 0.3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ibel Suit"/>
              </a:rPr>
              <a:t>--Corinne Monteleone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6" descr=""/>
          <p:cNvPicPr/>
          <p:nvPr/>
        </p:nvPicPr>
        <p:blipFill>
          <a:blip r:embed="rId1"/>
          <a:stretch/>
        </p:blipFill>
        <p:spPr>
          <a:xfrm>
            <a:off x="706320" y="262080"/>
            <a:ext cx="7956720" cy="135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pgaurav.files.wordpress.com/2011/01/solarsystem.gif?w=500"/>
          <p:cNvPicPr/>
          <p:nvPr/>
        </p:nvPicPr>
        <p:blipFill>
          <a:blip r:embed="rId2"/>
          <a:stretch/>
        </p:blipFill>
        <p:spPr>
          <a:xfrm rot="360600">
            <a:off x="7040160" y="4723920"/>
            <a:ext cx="21034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e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5" descr=""/>
          <p:cNvPicPr/>
          <p:nvPr/>
        </p:nvPicPr>
        <p:blipFill>
          <a:blip r:embed="rId1"/>
          <a:stretch/>
        </p:blipFill>
        <p:spPr>
          <a:xfrm>
            <a:off x="2206800" y="353880"/>
            <a:ext cx="5016240" cy="133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t1.gstatic.com/images?q=tbn:ANd9GcTDLS8wVLKbas51wOpRm4Kq7fZtnhQKlBuBfczcCI2nTGASAEbPtA&amp;t=1"/>
          <p:cNvPicPr/>
          <p:nvPr/>
        </p:nvPicPr>
        <p:blipFill>
          <a:blip r:embed="rId2"/>
          <a:stretch/>
        </p:blipFill>
        <p:spPr>
          <a:xfrm>
            <a:off x="228600" y="1066680"/>
            <a:ext cx="294948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a1star.com/images/001-solar_system-my-fantasy.jpg"/>
          <p:cNvPicPr/>
          <p:nvPr/>
        </p:nvPicPr>
        <p:blipFill>
          <a:blip r:embed="rId3"/>
          <a:stretch/>
        </p:blipFill>
        <p:spPr>
          <a:xfrm>
            <a:off x="4648320" y="1295280"/>
            <a:ext cx="2919240" cy="20494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http://scienceblogs.com/startswithabang/upload/2009/04/the_closest_kuiper_belt_object/800px-Solar_sys.jpg"/>
          <p:cNvPicPr/>
          <p:nvPr/>
        </p:nvPicPr>
        <p:blipFill>
          <a:blip r:embed="rId4"/>
          <a:stretch/>
        </p:blipFill>
        <p:spPr>
          <a:xfrm>
            <a:off x="380880" y="3505320"/>
            <a:ext cx="4716720" cy="29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http://t1.gstatic.com/images?q=tbn:ANd9GcTPHVbO59l9ne68ms6SWM5Q2fhjaMTiAMtS2ThZR0IXCfnGvY0E"/>
          <p:cNvPicPr/>
          <p:nvPr/>
        </p:nvPicPr>
        <p:blipFill>
          <a:blip r:embed="rId5"/>
          <a:stretch/>
        </p:blipFill>
        <p:spPr>
          <a:xfrm>
            <a:off x="5715000" y="4038480"/>
            <a:ext cx="289548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9"/>
          <p:cNvGraphicFramePr/>
          <p:nvPr/>
        </p:nvGraphicFramePr>
        <p:xfrm>
          <a:off x="220680" y="228600"/>
          <a:ext cx="892332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28600"/>
                    <a:ext cx="8923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533520" y="380880"/>
          <a:ext cx="84582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4582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04920" y="304920"/>
          <a:ext cx="906768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90676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0" y="365040"/>
          <a:ext cx="9144000" cy="649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040"/>
                    <a:ext cx="914400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0" y="0"/>
          <a:ext cx="9601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03:50Z</dcterms:created>
  <dc:creator>mchamorro</dc:creator>
  <dc:description/>
  <dc:language>en-US</dc:language>
  <cp:lastModifiedBy>ASD</cp:lastModifiedBy>
  <dcterms:modified xsi:type="dcterms:W3CDTF">2011-02-14T15:53:31Z</dcterms:modified>
  <cp:revision>16</cp:revision>
  <dc:subject/>
  <dc:title>Slide 1</dc:title>
</cp:coreProperties>
</file>